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1D7-8370-463B-9E7F-3C3B7F89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8B4-F86B-4B44-8C0A-0EE6D16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B4A-1B33-45B9-9793-F185F7DA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CAE-2F7B-45A0-8A28-AEA7239D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A94-88A7-4B4D-BA20-3418A96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C99-F580-4CDE-9EBC-205B7AC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0D0-75C1-4E04-8842-266EC3E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7A3-BE5B-45C7-BE9A-BD88F17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0A8-B3FC-426A-BEF2-80AEA7F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CD4-DEE8-4315-B5A5-FE4629D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4B0-6620-4728-946B-3130D4A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1B7-EEFC-426B-AECB-01489A5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28F-E152-49AD-BC3D-B9404502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askerville Old Face"/>
              </a:rPr>
              <a:t>Bugs Pre-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1337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64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79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3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3284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564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516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 live in different environment some insects live in wet environment some insects live in dry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221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sects eat leaves h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37Z</dcterms:created>
  <dc:creator>jennifer.doeur</dc:creator>
  <dc:description/>
  <dc:language>en-US</dc:language>
  <cp:lastModifiedBy>jennifer.doeur</cp:lastModifiedBy>
  <dcterms:modified xsi:type="dcterms:W3CDTF">2009-03-24T02:40:50Z</dcterms:modified>
  <cp:revision>2</cp:revision>
  <dc:subject/>
  <dc:title>Bugs Pre-Test</dc:title>
</cp:coreProperties>
</file>